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14.wmf" ContentType="image/x-wmf"/>
  <Override PartName="/ppt/media/image9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4.jpeg" ContentType="image/jpeg"/>
  <Override PartName="/ppt/media/image10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dt" idx="39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UY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E2C6E-C46B-4B03-AFF8-33FB9B9F1E63}" type="slidenum">
              <a:rPr b="0" lang="es-UY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683F9-3251-4889-87C9-877902437AE1}" type="slidenum">
              <a:rPr b="0" lang="es-UY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set of rules defined by the community. These rules are applied by LACNIC’s resource analysts in order to approve / deny al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hitting the reserve limit, policies dictate that allocations are made according to a needs-based set of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636E6-D518-4AEA-BCD9-0D899768C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C5F201A8-8C1E-4B05-881D-5DCB4085A829}" type="slidenum">
              <a:rPr b="0" lang="en-A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08080" y="803160"/>
            <a:ext cx="5343480" cy="40086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ED15E-6E1D-4CA6-AC60-B1D67A07B58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1"/>
          <p:cNvSpPr/>
          <p:nvPr/>
        </p:nvSpPr>
        <p:spPr>
          <a:xfrm>
            <a:off x="1106640" y="812880"/>
            <a:ext cx="533844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028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BFE6B00B-3368-4253-BC62-7A492AB57751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08080" y="803160"/>
            <a:ext cx="5343480" cy="4008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1"/>
          <p:cNvSpPr/>
          <p:nvPr/>
        </p:nvSpPr>
        <p:spPr>
          <a:xfrm>
            <a:off x="1106640" y="812880"/>
            <a:ext cx="533844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028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16E-D42F-4865-A04F-3839C8E1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197-4E5B-4CDA-84C8-8DA28AE2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4FC068-1EC0-4AB9-8B32-C764AF10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D5B250-4FC1-49D0-B485-2F4B5C7F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590958-5F6B-4B35-A93B-9C9F9A80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43FE1B-9C50-48BC-923E-5875148D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14B6E6-C4B9-4772-9A1E-5C77BDA3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3A5D3D-8C08-4D04-92F4-DA978868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20232-AFAF-4E35-9E36-FA4AE69A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B37B6E-8E47-4E6D-BCB8-2C6D7E9B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6C10B4-D4A8-49FF-8B89-ADEA28C8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0D0614-85D0-417A-A41C-F199EA23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FD3-C9FF-41E5-AB0F-21EA7EC9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4290A7-F457-418C-95E8-25677859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9E4AE2-757F-45BB-8809-A0E63EA8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8F6D22-1EC0-4F8B-81B7-1859E053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6E8B2F-9727-4C33-98DF-10F49F77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6B2E5E-21B8-4AF8-8B09-EBBCB523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26E870-D356-4FA3-B4A8-C46CCFC9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8BF0F7-07F2-4190-8389-6E906819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99C8DC-A05A-4DEE-ADD5-ABC32358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31261E-CAC0-4695-A8D4-27A967E4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388886-E425-4302-9F54-C5531D6E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643-661E-4190-B35E-43C29EC0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5767E6-347E-4EB0-9CE7-A4299DFD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C0647C-E2C2-46D6-A1FF-49F3B587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EFBBFC-EDB0-4E8A-8383-E261FED1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7FA6C1-D7A0-4AC0-99A4-AAFC6DFD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5FE77C-A07C-459D-881F-80FC1A1A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2D6D8C-17A4-4843-8E21-CB9AD857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6F979F-740E-4DE5-8A15-5A94A789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8610AE-0332-4E2F-BB6F-4FEA6A72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C2B026-3A0A-48D8-9132-7C04D441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AFEA9C-65A4-48EA-86E4-B43F42AD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6FAB-5A9D-4008-BD54-D7022041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86186E-8813-46F2-982E-2E6F5202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0D2202-97AB-46CE-AB2F-5C53F2CD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F9DE66-26C4-448A-88B1-DDA4C880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F0C993-7862-49A5-BED2-B144B586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F4574F-3348-4439-A27E-C058C9CA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CF73E7-9205-4EF8-92AC-8A9E5724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39BBCF-5A53-403F-84F1-F59D776A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FC1604-0D3E-4C74-B557-8DED6D15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6D7969-9886-411C-9851-5F83791A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50DEC6-AD8A-46FA-87BA-51F6603B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DDD1-5ABF-4ED3-ABFE-BF52C7EC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A91B51-1CAF-495A-8358-BC6B36B9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02267C-CCA8-4CD4-A6F2-E17EF4B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3451DD-14D5-4201-AD1E-435CDC74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18DBC5-A763-4AB3-98F4-875559EE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C5847F-10DA-4193-838A-D92B9884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232C34-E573-4D6F-B3A9-CF2670C1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89E4A1-A8FE-4133-9561-3671E4FA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209E52-69DC-4F7B-882B-95112154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8C9844-222B-4F67-B484-CB30DEA1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A2837C-7E72-4ECB-990A-84382487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E165-4A7A-4797-AAE8-0EAEF9BE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72CA59-5753-4C8E-866B-F94B3CF6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5414CD-8958-47CA-99AA-4E56BB00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2B41A7-AA67-411C-AA1D-278BA68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52DD61-9C11-458F-822F-782B8D77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BF3648-73D2-4A98-8AFD-54F692B1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53A78F-F902-40F0-A43C-3DC09FA9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03DBB1-4A64-451C-BAAB-208B95F1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D6CA-05F1-41E7-9D88-CC66BC22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218A-5BCC-4B13-88FD-692BC463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4D6D-C787-4E19-ABF0-9CA3E67B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8A0D-27EB-4ADD-A0B5-5C2F8F80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069-F8E3-41E7-BC48-9464E78E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9E35-E4BD-4BF4-A981-0AA6CAC8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DAFB-D631-4160-AD16-8A91E0D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8873-F270-470A-B13D-55D4B2CD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B2A4-D631-456A-B62E-6DF42E99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9C1E-14EB-4005-B978-9E25C5F9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6CD18-0210-4406-A4B3-08FA194EDE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199B8-C831-46B8-925C-3881A5B7E4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FA82F-7D38-43FC-83FA-4F62E28D49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1CA6A-4817-48B2-BEED-F87986C9E2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68795-4BE6-482F-A3B6-7FE1F000AA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D0F-A555-4569-AC74-2BDBFF5C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D6EC9-92A0-4211-A096-EBC8A1C960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78F21-6854-469F-B4F3-4C0BA6FE14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2038B-0DDE-4181-B2B5-1A2D2BCA2F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4B599-C1AB-496F-9D46-22D592ACAF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96F0D-D342-4AE1-8204-568982715B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91A49-8FF3-4435-8069-82EB1183E1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8030F-BD2D-491C-85F2-217F967BBF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0B806-36C4-4961-9217-382A3462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6F012-0D63-4763-91CB-173FF6BF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D19AF-F557-4E2B-934F-2A8B4850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9A9-047F-49C4-90D8-0ADC1F9D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884F21-8E74-4800-819D-36749E39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21916-71D0-4A71-AA01-6079C05C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3F4C5-FE58-43B7-93DF-5E2563D8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2C69A-2BFD-4D00-993B-0353ACF4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F684D-D6FB-49DB-AB8F-58EA5A46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32183-E2C1-4F73-8E42-D191D449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709DF-8D1E-4D05-A04A-D9D10D87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E62673-5BB4-4E82-9DFA-DC7CCA21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18612-40BB-424A-89E7-79B625D6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4B366-102C-42B6-BA6D-068B65A1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6BB-A080-4831-90A8-02ADD476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1EDB0-3F23-4ED0-A97D-FC7B8017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30E08-AF57-4E4D-A0DE-34A4DCE2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A1F76-E571-406F-8A93-2288D208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054C0-CD3A-4D1E-A666-C268E66E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0BFAD-17E5-4798-BDF6-291B4EDD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8C4A80-E4DC-4EA4-B0AE-8C10A0C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81D05-0D38-438D-A813-DE2C9C20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BB31F-800F-419B-A082-5A39F537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26DD2-7663-48CE-BE03-96FEF102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CC7EE-0FED-47D0-8512-3DD3292D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25B-8D9E-45D0-8429-4CA9E3E0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EFD56-2C6D-4D1B-A79E-654D1A1B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1CFA4-C7EE-4937-BE0F-1B8569F8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67BDE-3AA0-4349-B96C-953029DE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F108F-6AE6-4AF4-BC58-485E55E9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0F768-4153-4DAC-895D-BB4B5256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A3C11-C79D-4704-97B6-79B8049F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A7F38-95B7-46E1-9941-365156F1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EE09B-D817-498E-B8AA-001CF379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87346-BD64-4950-A833-4E76F547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C47BE-CBFC-45EC-90BF-EF49639E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FCC-1B3C-496D-8D86-AA62B8D4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127DE2-FFED-4FC4-B7FA-5C417C1A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997C0-4E25-44A4-BFFF-44F04EE3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E5711-C95D-4B18-A844-1937BE1E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7B9CD-2015-47D8-8668-886CE263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F089F-CC53-42B1-A7F6-E96F76E1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B723A-D199-4D01-AA70-C72102F1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6B1B7-91EF-4077-8022-ABFB3DC1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F6CD2-91AF-4D76-90EF-BD0C5266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26594-4D33-4982-9446-048FA65F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BECBF-FF2F-4B41-94FB-B0B8862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7EB-A1E8-47F3-81F7-4A84BA54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C52CB-B382-4478-94B6-89ECFBEB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82873-9A2B-4BBF-8998-6C958927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BA5E7F-E829-42FE-9A50-E91C001A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48215-334B-4205-995B-FA81FD99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8FA8D-A23B-42FD-AE93-F42711ED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4AA7D1-5E94-4944-B249-6A1F9A0A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5AB884-AFF7-4FFE-9BE0-09356D15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539A39-BBB1-4677-9981-1C943359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9E3443-8911-4755-B4EF-2B8418F2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C0498-7323-425F-9E36-EE8B7156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94A-B9A8-4625-BA01-FB74F664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971C35-E07F-40DE-95B9-B49839CA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54330D-71EC-4897-82CF-A5BE6D6C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C69370-58DF-40FC-869D-A3A669E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962F00-0A1B-4CB6-9618-1E3246F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76920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9DF693-E917-4D28-8FF0-33B1FA41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19196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76920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CFA0B3-79A9-420B-9C5D-4AA157B0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19196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76920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95C1C2-3C1F-468A-910E-B7C909DB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58C0F9-2425-416E-B57A-3C2A3BAF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00DF49-AF14-4B15-BB3F-3A754A5C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140B3E-BF5C-47EB-9073-CA18498F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5B14DB-E30C-4F17-BF23-55C7FE6192B9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F43660-E82A-4928-933B-F01BDAADCE3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1638A2-1064-4B83-AB10-C20DCB62AE91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B1AC75-EBDD-41C6-A3BA-E8B28B82B14B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511DBC-99B0-4DED-A2C9-055DDCB231A2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6CC438-152A-434A-93B7-617825629302}" type="datetime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21A564-C769-4690-9187-C326AA95BE48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7C550A-D9DA-492D-AF7B-34D06337B804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77F131-E109-4B21-839B-A35A8129E7AC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F20D26-D9CF-4FF3-B6D1-29A0230845F2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FEC779-A24E-4E14-8DE3-85FEBB6B0972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2D4BA9-4715-4B67-8723-2B05A3A1D0FC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F57E3D-765B-4E33-A873-D14E457801AC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C10612-8BA4-4A0F-8ACE-37206CABC650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380B60-343C-498B-99C6-7709F73877A4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acnic.net/web/lacnic/manual" TargetMode="External"/><Relationship Id="rId3" Type="http://schemas.openxmlformats.org/officeDocument/2006/relationships/hyperlink" Target="http://www.lacnic.net/web/lacnic/servicios-registro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solicitudes.lacnic.net/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"/>
          <p:cNvSpPr/>
          <p:nvPr/>
        </p:nvSpPr>
        <p:spPr>
          <a:xfrm>
            <a:off x="4473720" y="6477120"/>
            <a:ext cx="2062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888493-BB2C-4F90-A94D-8D241CF61391}" type="slidenum">
              <a:rPr b="0" lang="es-UY" sz="800" spc="-1" strike="noStrike">
                <a:solidFill>
                  <a:srgbClr val="000000"/>
                </a:solidFill>
                <a:latin typeface="Gill Sans"/>
                <a:ea typeface="ヒラギノ角ゴ ProN W6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" y="2590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ignación de Recurso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486160" y="487152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Pv4, IPv6 y Sistemas Autóno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quisitos AS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 multiproveedor o tener programado convertirse en multiproveedor en menos de dos semanas a partir del momento de la solicitud. Conexiones de peering aplican como “multihomed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ar documentación detallada describien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558ed5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Política de ruteo</a:t>
            </a:r>
            <a:endParaRPr b="0" lang="en-US" sz="2400" spc="-1" strike="noStrike">
              <a:solidFill>
                <a:srgbClr val="558ed5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558ed5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Protocolo de ruteo externo</a:t>
            </a:r>
            <a:endParaRPr b="0" lang="en-US" sz="2400" spc="-1" strike="noStrike">
              <a:solidFill>
                <a:srgbClr val="558ed5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558ed5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Direcciones IP que se van a anunciar</a:t>
            </a:r>
            <a:endParaRPr b="0" lang="en-US" sz="2400" spc="-1" strike="noStrike">
              <a:solidFill>
                <a:srgbClr val="558ed5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zones por las que su política de ruteo es diferente a la de sus prov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Solicitud de Recursos IPv4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pos de organizacione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P: Requiere las direcciones IP para brindar servicios a sus clientes. Puede sub-asign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rio Final: Requiere las direcciones IP para su propia infraestructura. No puede sub-asign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ganizaciones IS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een servicios d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asignan sus direcciones IP a sus cl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ción mínima a ISPs: /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citar IPv6 si aún no se ti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Arial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quisitos para bloque inicial /22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strar el uso o la necesidad inmediata de un /2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egar un plan detallado de uso de un /23 a un añ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r de acuerdo en renumerar el bloque previamente asignado y retornar esas direcciones IPv4 a sus ISPs antes de transcurridos 12 meses a partir de la distribución del /2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sitos para bloque inicial /21 o mayor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eer info de sub-asignaciones bloques /29 o mayores en el WHOIS de LACN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eer info detallada mostrando cómo será utilizado el bloque solicitado dentro de los periodos de tres, seis y doce me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r de acuerdo en renumerar los bloques obtenidos de sus proveedores dentro de un plazo de 12 meses y regresar el espacio a su proveedor origi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Arial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ultiplicación 4"/>
          <p:cNvSpPr/>
          <p:nvPr/>
        </p:nvSpPr>
        <p:spPr>
          <a:xfrm>
            <a:off x="-76320" y="152280"/>
            <a:ext cx="9296640" cy="6477120"/>
          </a:xfrm>
          <a:prstGeom prst="pie">
            <a:avLst/>
          </a:prstGeom>
          <a:solidFill>
            <a:srgbClr val="ff0000">
              <a:alpha val="65000"/>
            </a:srgbClr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sitos para bloque inicial /21 o mayor (2)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el solicitante es un ISP multiproveedor, pronto a serlo o tiene necesidades de interconex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Estar utilizando eficientemente un equivalente al 25% del espacio solicitado como mínimo (contiguo o no).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el solicitante es un ISP no multiproveed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Estar utilizado eficientemente un 50% del espacio solicitado como mínimo (contiguo o no).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Arial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Multiplicación 4"/>
          <p:cNvSpPr/>
          <p:nvPr/>
        </p:nvSpPr>
        <p:spPr>
          <a:xfrm>
            <a:off x="-76320" y="152280"/>
            <a:ext cx="9296640" cy="6477120"/>
          </a:xfrm>
          <a:prstGeom prst="pie">
            <a:avLst/>
          </a:prstGeom>
          <a:solidFill>
            <a:srgbClr val="ff0000">
              <a:alpha val="65000"/>
            </a:srgbClr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rganizaciones Usuarios Final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 Usuario Finales aquellas organizaciones que requieren direcciones IPv4 para su uso interno, para el funcionamiento de sus redes, pero NO para la sub-asignación afuera de su organiz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 este caso, la asignación mínima es de un bloque /2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Arial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quisitos asignación inicial UF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NIC solicitará información sobre cómo será utilizado el bloque solicitado, planes de subneteo, topología de red, planes de ruteo de la red, protocolos de rut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a de utiliz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25% de utilización inmediata del bloque solicitado.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50% de utilización a un año del bloque solicitado.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citar IPv6 si aún no se ti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Arial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F Multiproveedo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gnación mínima /24 y máximo /2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roveedor o convertirse en uno dentro de un plazo de seis meses o planea establecer interconexiones con otros sistemas autónomos en el mismo plazo, deberán presentar una justificación detalla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ar justificación del tamaño del bloque solicitado, de acuerdo con la tasa de util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Arial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7" descr=""/>
          <p:cNvPicPr/>
          <p:nvPr/>
        </p:nvPicPr>
        <p:blipFill>
          <a:blip r:embed="rId2"/>
          <a:stretch/>
        </p:blipFill>
        <p:spPr>
          <a:xfrm>
            <a:off x="1403280" y="3262320"/>
            <a:ext cx="5149800" cy="34592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Calibri"/>
              </a:rPr>
              <a:t>¿Qué es una dirección IP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218960"/>
            <a:ext cx="8229600" cy="22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Son los números necesarios para identificar el origen y destino de los flujos de inform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DEBEN ser ún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IP = Internet Proto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Marcador de número de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A3B0A4-3F02-4E6A-BB96-1B29886E0355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F Multiproveedo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r de acuerdo en renumerar todos los bloques asignados por los proveedores dentro de un plazo de 3 meses y regresar el espacio a su proveedor origi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gnaciones iniciales de un bloque mayor que un /21 deberán seguir los requerimientos adicionales establecidos para usuarios finales no multiproveedor descritos abaj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Arial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F Proveedor único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tamaño de asignación mínima /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r con una asignación mínima de 8 prefijos /24 de su proveedor de servicios de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r de acuerdo en renumerar ese direccionamiento dentro de un plazo de 12 meses y regresarlo a su proveedor origin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Multiplicación 3"/>
          <p:cNvSpPr/>
          <p:nvPr/>
        </p:nvSpPr>
        <p:spPr>
          <a:xfrm>
            <a:off x="-76320" y="152280"/>
            <a:ext cx="9296640" cy="6477120"/>
          </a:xfrm>
          <a:prstGeom prst="pie">
            <a:avLst/>
          </a:prstGeom>
          <a:solidFill>
            <a:srgbClr val="ff0000">
              <a:alpha val="65000"/>
            </a:srgbClr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croasignacione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ores que /24 pero menores a /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gnación a IXP (Internet Exchange Point), NAP (Network Access Point), RIR, ccTLD entre ot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strar su calidad de IXP, RIR, ccTLD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ar el plan de numeración a instrumen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eer un plan de utilización para los próximos tres y seis me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croasignacione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estudiarán basados en el análisis de documentación que justifique los  aspectos críticos y/o claves del proyecto.  La organización que reciba una microasignación no podrá realizar asignaciones con estas  direcciones IPv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citar IPv6 en caso de que no se tenga asign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licitudes Adicionales IPv4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r utilizando al menos el 80% de las distribución anteri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gnaciones de bloques dentro de la ventana de asignación deben haber sido enviadas para la previa autorización de LACN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gnaciones mayores o iguales a un /29 deben estar disponibles vía WHO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er devuelto el espacio designado para devolución en el tiempo comprometi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Arial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licitudes Adicionales IPv4 (2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r al día en el registro de la resolución inver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r al día en sus obligaciones contractu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eer información detallada mostrando como será utilizado el espacio de direcciones IPv4 dentro de los periodos de tres, seis y doce me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citar IPv6 si aún no se ti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Arial"/>
              </a:rPr>
              <a:t>16/05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Fase de Agotamiento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376092"/>
                </a:solidFill>
                <a:latin typeface="Calibri"/>
              </a:rPr>
              <a:t>Agotamiento IPv4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8920" y="1557360"/>
            <a:ext cx="8820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El manejo de este espacio IPv4 es mediante 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Y" sz="2400" spc="-1" strike="noStrike">
                <a:solidFill>
                  <a:srgbClr val="558ed5"/>
                </a:solidFill>
                <a:latin typeface="Georgia"/>
                <a:ea typeface="Georgia"/>
              </a:rPr>
              <a:t>Estas políticas son propuestas y aprobadas por la comunidad a través de procesos bottom-up</a:t>
            </a:r>
            <a:endParaRPr b="0" lang="en-US" sz="24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Y" sz="2400" spc="-1" strike="noStrike">
                <a:solidFill>
                  <a:srgbClr val="558ed5"/>
                </a:solidFill>
                <a:latin typeface="Georgia"/>
                <a:ea typeface="Georgia"/>
              </a:rPr>
              <a:t>LACNIC aplica estas políticas en el manejo de los recursos</a:t>
            </a:r>
            <a:endParaRPr b="0" lang="en-US" sz="2400" spc="-1" strike="noStrike">
              <a:solidFill>
                <a:srgbClr val="558ed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Antes del agotamiento de direcciones en nuestra región, el espacio remanente será asignado de acuerdo a los siguientes crite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74680" y="549000"/>
            <a:ext cx="864072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376092"/>
                </a:solidFill>
                <a:latin typeface="Calibri"/>
              </a:rPr>
              <a:t>Políticas de agotamiento (etapas)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3520" y="1319040"/>
            <a:ext cx="82296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Cuando el espacio libre de LACNIC alcance el equivalente a </a:t>
            </a:r>
            <a:r>
              <a:rPr b="1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un /10 </a:t>
            </a: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(~4.2 millones de direcciones), </a:t>
            </a:r>
            <a:br>
              <a:rPr sz="2400"/>
            </a:b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la siguiente política de asignación entra en funcionamiento &lt;- </a:t>
            </a:r>
            <a:r>
              <a:rPr b="0" lang="es-UY" sz="2400" spc="-1" strike="noStrike">
                <a:solidFill>
                  <a:srgbClr val="ff0000"/>
                </a:solidFill>
                <a:latin typeface="Georgia"/>
                <a:ea typeface="Georgia"/>
              </a:rPr>
              <a:t>Llegamos a un /10 el 10 e Junio de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Estas son las etapas cuando se alcance este lím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200" spc="-1" strike="noStrike">
                <a:solidFill>
                  <a:srgbClr val="558ed5"/>
                </a:solidFill>
                <a:latin typeface="Georgia"/>
                <a:ea typeface="Georgia"/>
              </a:rPr>
              <a:t>Periodo soft-landing</a:t>
            </a:r>
            <a:endParaRPr b="0" lang="en-US" sz="22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200" spc="-1" strike="noStrike">
                <a:solidFill>
                  <a:srgbClr val="558ed5"/>
                </a:solidFill>
                <a:latin typeface="Georgia"/>
                <a:ea typeface="Georgia"/>
              </a:rPr>
              <a:t>Recursos para nuevos entrantes</a:t>
            </a:r>
            <a:endParaRPr b="0" lang="en-US" sz="22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200" spc="-1" strike="noStrike">
                <a:solidFill>
                  <a:srgbClr val="558ed5"/>
                </a:solidFill>
                <a:latin typeface="Georgia"/>
                <a:ea typeface="Georgia"/>
              </a:rPr>
              <a:t>Agotamiento final</a:t>
            </a:r>
            <a:endParaRPr b="0" lang="en-US" sz="2200" spc="-1" strike="noStrike">
              <a:solidFill>
                <a:srgbClr val="558ed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Los criterios de asignación IPv4 ya no serán basados en las neces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558ed5"/>
                </a:solidFill>
                <a:latin typeface="Georgia"/>
                <a:ea typeface="Georgia"/>
              </a:rPr>
              <a:t>Incluso si una organización justifica la necesidad, solamente un bloque de tamaño fijo le será asignado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1000" y="768240"/>
            <a:ext cx="864072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376092"/>
                </a:solidFill>
                <a:latin typeface="Calibri"/>
              </a:rPr>
              <a:t>Soft Lan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78920" y="1557000"/>
            <a:ext cx="8820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El primer período es el denominado </a:t>
            </a:r>
            <a:r>
              <a:rPr b="0" i="1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soft-la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558ed5"/>
                </a:solidFill>
                <a:latin typeface="Georgia"/>
                <a:ea typeface="Georgia"/>
              </a:rPr>
              <a:t>Un bloque</a:t>
            </a:r>
            <a:r>
              <a:rPr b="0" lang="es-UY" sz="2000" spc="-1" strike="noStrike">
                <a:solidFill>
                  <a:srgbClr val="558ed5"/>
                </a:solidFill>
                <a:latin typeface="Georgia"/>
                <a:ea typeface="Georgia"/>
              </a:rPr>
              <a:t> /11 estará disponible para este período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Organizaciones</a:t>
            </a:r>
            <a:r>
              <a:rPr b="1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es-UY" sz="2400" spc="-1" strike="noStrike">
                <a:solidFill>
                  <a:srgbClr val="31859c"/>
                </a:solidFill>
                <a:latin typeface="Georgia"/>
                <a:ea typeface="Georgia"/>
              </a:rPr>
              <a:t>nuevas o existentes </a:t>
            </a: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podrán obtener prefijos </a:t>
            </a:r>
            <a:r>
              <a:rPr b="0" lang="es-UY" sz="2400" spc="-1" strike="noStrike">
                <a:solidFill>
                  <a:srgbClr val="31859c"/>
                </a:solidFill>
                <a:latin typeface="Georgia"/>
                <a:ea typeface="Georgia"/>
              </a:rPr>
              <a:t>de hasta un /22 cada seis meses </a:t>
            </a: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si es justificado apropiadam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Y" sz="2400" spc="-1" strike="noStrike">
                <a:solidFill>
                  <a:srgbClr val="558ed5"/>
                </a:solidFill>
                <a:latin typeface="Georgia"/>
                <a:ea typeface="Georgia"/>
              </a:rPr>
              <a:t>Esto significa</a:t>
            </a:r>
            <a:endParaRPr b="0" lang="en-US" sz="2400" spc="-1" strike="noStrike">
              <a:solidFill>
                <a:srgbClr val="558ed5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Habrá 1024 bloques disponibles</a:t>
            </a:r>
            <a:endParaRPr b="0" lang="en-US" sz="2400" spc="-1" strike="noStrike">
              <a:solidFill>
                <a:srgbClr val="558ed5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Máximo un /22 (1024 direcciones) cada seis meses</a:t>
            </a:r>
            <a:endParaRPr b="0" lang="en-US" sz="2400" spc="-1" strike="noStrike">
              <a:solidFill>
                <a:srgbClr val="558ed5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20560" y="-12960"/>
            <a:ext cx="81028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¿De dónde “salen”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23"/>
          <p:cNvSpPr/>
          <p:nvPr/>
        </p:nvSpPr>
        <p:spPr>
          <a:xfrm>
            <a:off x="349200" y="5675400"/>
            <a:ext cx="58942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eorgia"/>
                <a:ea typeface="Georgia"/>
              </a:rPr>
              <a:t>En ocasiones se realiza a través de NIRs, como en el caso del NIC.br y NIC.M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1"/>
          <p:cNvSpPr/>
          <p:nvPr/>
        </p:nvSpPr>
        <p:spPr>
          <a:xfrm>
            <a:off x="0" y="3530520"/>
            <a:ext cx="4660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Georgia"/>
                <a:ea typeface="Georgia"/>
              </a:rPr>
              <a:t>Los Registros Regionales de Internet (RIRs) distribuyen IPv4, IPv6 y números AS a la comunidad d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Georgia"/>
                <a:ea typeface="Georgia"/>
              </a:rPr>
              <a:t>Los RIRs mantienen un registro preciso de los Recursos de Internet usados por la com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Imagen 1" descr="logo lacnic 2.jpg"/>
          <p:cNvPicPr/>
          <p:nvPr/>
        </p:nvPicPr>
        <p:blipFill>
          <a:blip r:embed="rId2"/>
          <a:stretch/>
        </p:blipFill>
        <p:spPr>
          <a:xfrm>
            <a:off x="4683240" y="2382840"/>
            <a:ext cx="1685880" cy="9064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4" descr="NICBR"/>
          <p:cNvPicPr/>
          <p:nvPr/>
        </p:nvPicPr>
        <p:blipFill>
          <a:blip r:embed="rId3"/>
          <a:stretch/>
        </p:blipFill>
        <p:spPr>
          <a:xfrm>
            <a:off x="6391440" y="3273480"/>
            <a:ext cx="906120" cy="906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4"/>
          <a:stretch/>
        </p:blipFill>
        <p:spPr>
          <a:xfrm>
            <a:off x="3386160" y="1574640"/>
            <a:ext cx="1103400" cy="8208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5"/>
          <a:stretch/>
        </p:blipFill>
        <p:spPr>
          <a:xfrm>
            <a:off x="1165320" y="1081080"/>
            <a:ext cx="1104840" cy="8208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"/>
          <p:cNvPicPr/>
          <p:nvPr/>
        </p:nvPicPr>
        <p:blipFill>
          <a:blip r:embed="rId6"/>
          <a:stretch/>
        </p:blipFill>
        <p:spPr>
          <a:xfrm>
            <a:off x="7122960" y="4343400"/>
            <a:ext cx="824040" cy="1054080"/>
          </a:xfrm>
          <a:prstGeom prst="rect">
            <a:avLst/>
          </a:prstGeom>
          <a:ln w="0">
            <a:noFill/>
          </a:ln>
        </p:spPr>
      </p:pic>
      <p:cxnSp>
        <p:nvCxnSpPr>
          <p:cNvPr id="554" name="AutoShape 11"/>
          <p:cNvCxnSpPr/>
          <p:nvPr/>
        </p:nvCxnSpPr>
        <p:spPr>
          <a:xfrm>
            <a:off x="2211120" y="1307880"/>
            <a:ext cx="1251720" cy="59436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55" name="AutoShape 12"/>
          <p:cNvCxnSpPr/>
          <p:nvPr/>
        </p:nvCxnSpPr>
        <p:spPr>
          <a:xfrm>
            <a:off x="4038480" y="2031840"/>
            <a:ext cx="982080" cy="66456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56" name="AutoShape 13"/>
          <p:cNvCxnSpPr/>
          <p:nvPr/>
        </p:nvCxnSpPr>
        <p:spPr>
          <a:xfrm>
            <a:off x="5703840" y="3193560"/>
            <a:ext cx="665640" cy="531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57" name="AutoShape 14"/>
          <p:cNvCxnSpPr/>
          <p:nvPr/>
        </p:nvCxnSpPr>
        <p:spPr>
          <a:xfrm>
            <a:off x="6689520" y="3836520"/>
            <a:ext cx="619560" cy="7009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58" name="Text Box 15"/>
          <p:cNvSpPr/>
          <p:nvPr/>
        </p:nvSpPr>
        <p:spPr>
          <a:xfrm>
            <a:off x="349200" y="1934640"/>
            <a:ext cx="2840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c53229"/>
                </a:solidFill>
                <a:latin typeface="Arial"/>
              </a:rPr>
              <a:t>Estánd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1784520" y="2570400"/>
            <a:ext cx="27716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c53229"/>
                </a:solidFill>
                <a:latin typeface="Arial"/>
              </a:rPr>
              <a:t>Distrib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4921200" y="4048200"/>
            <a:ext cx="2104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c53229"/>
                </a:solidFill>
                <a:latin typeface="Arial"/>
              </a:rPr>
              <a:t>Distrib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5124600" y="5050440"/>
            <a:ext cx="2104920" cy="3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c53229"/>
                </a:solidFill>
                <a:latin typeface="Arial"/>
              </a:rPr>
              <a:t>Asign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"/>
          <p:cNvGrpSpPr/>
          <p:nvPr/>
        </p:nvGrpSpPr>
        <p:grpSpPr>
          <a:xfrm>
            <a:off x="8112240" y="4784760"/>
            <a:ext cx="774720" cy="993600"/>
            <a:chOff x="8112240" y="4784760"/>
            <a:chExt cx="774720" cy="993600"/>
          </a:xfrm>
        </p:grpSpPr>
        <p:pic>
          <p:nvPicPr>
            <p:cNvPr id="563" name="Picture 20" descr=""/>
            <p:cNvPicPr/>
            <p:nvPr/>
          </p:nvPicPr>
          <p:blipFill>
            <a:blip r:embed="rId7"/>
            <a:stretch/>
          </p:blipFill>
          <p:spPr>
            <a:xfrm>
              <a:off x="8112240" y="4784760"/>
              <a:ext cx="7747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21"/>
            <p:cNvSpPr/>
            <p:nvPr/>
          </p:nvSpPr>
          <p:spPr>
            <a:xfrm>
              <a:off x="8207640" y="5230800"/>
              <a:ext cx="5839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algn="ctr">
                <a:lnSpc>
                  <a:spcPct val="80000"/>
                </a:lnSpc>
                <a:spcBef>
                  <a:spcPts val="814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300" spc="-1" strike="noStrike">
                  <a:solidFill>
                    <a:srgbClr val="1f497d"/>
                  </a:solidFill>
                  <a:latin typeface="Verdana"/>
                </a:rPr>
                <a:t>End us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25"/>
          <p:cNvSpPr/>
          <p:nvPr/>
        </p:nvSpPr>
        <p:spPr>
          <a:xfrm>
            <a:off x="7238880" y="3141720"/>
            <a:ext cx="5889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1" descr=""/>
          <p:cNvPicPr/>
          <p:nvPr/>
        </p:nvPicPr>
        <p:blipFill>
          <a:blip r:embed="rId8"/>
          <a:stretch/>
        </p:blipFill>
        <p:spPr>
          <a:xfrm>
            <a:off x="6202440" y="879480"/>
            <a:ext cx="2214360" cy="1398600"/>
          </a:xfrm>
          <a:prstGeom prst="rect">
            <a:avLst/>
          </a:prstGeom>
          <a:ln w="0">
            <a:noFill/>
          </a:ln>
        </p:spPr>
      </p:pic>
      <p:sp>
        <p:nvSpPr>
          <p:cNvPr id="567" name="Right Arrow 20"/>
          <p:cNvSpPr/>
          <p:nvPr/>
        </p:nvSpPr>
        <p:spPr>
          <a:xfrm rot="20052000">
            <a:off x="4460760" y="3106440"/>
            <a:ext cx="509760" cy="50004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44b0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14"/>
          <p:cNvCxnSpPr/>
          <p:nvPr/>
        </p:nvCxnSpPr>
        <p:spPr>
          <a:xfrm>
            <a:off x="7618320" y="4822560"/>
            <a:ext cx="621000" cy="70236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69" name="Text Box 25"/>
          <p:cNvSpPr/>
          <p:nvPr/>
        </p:nvSpPr>
        <p:spPr>
          <a:xfrm>
            <a:off x="0" y="5656320"/>
            <a:ext cx="5889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74680" y="768240"/>
            <a:ext cx="864072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376092"/>
                </a:solidFill>
                <a:latin typeface="Calibri"/>
              </a:rPr>
              <a:t>Nuevos entrant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628280"/>
            <a:ext cx="8820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Luego de agotado este pool destinado a la fase de </a:t>
            </a:r>
            <a:r>
              <a:rPr b="0" i="1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soft-landing</a:t>
            </a: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, un segundo bloque /11 estará disponible exclusivamente para los nuevos entrantes al merc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Cada </a:t>
            </a:r>
            <a:r>
              <a:rPr b="0" lang="es-UY" sz="2400" spc="-1" strike="noStrike">
                <a:solidFill>
                  <a:srgbClr val="31859c"/>
                </a:solidFill>
                <a:latin typeface="Georgia"/>
                <a:ea typeface="Georgia"/>
              </a:rPr>
              <a:t>nueva organización </a:t>
            </a:r>
            <a:r>
              <a:rPr b="0" lang="es-UY" sz="2400" spc="-1" strike="noStrike">
                <a:solidFill>
                  <a:srgbClr val="000000"/>
                </a:solidFill>
                <a:latin typeface="Georgia"/>
                <a:ea typeface="Georgia"/>
              </a:rPr>
              <a:t>podrá solicitar </a:t>
            </a:r>
            <a:r>
              <a:rPr b="0" lang="es-UY" sz="2400" spc="-1" strike="noStrike">
                <a:solidFill>
                  <a:srgbClr val="31859c"/>
                </a:solidFill>
                <a:latin typeface="Georgia"/>
                <a:ea typeface="Georgia"/>
              </a:rPr>
              <a:t>hasta un /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Y" sz="2800" spc="-1" strike="noStrike">
                <a:solidFill>
                  <a:srgbClr val="17375e"/>
                </a:solidFill>
                <a:latin typeface="Georgia"/>
                <a:ea typeface="Georgia"/>
              </a:rPr>
              <a:t>ISP = /22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Y" sz="2800" spc="-1" strike="noStrike">
                <a:solidFill>
                  <a:srgbClr val="17375e"/>
                </a:solidFill>
                <a:latin typeface="Georgia"/>
                <a:ea typeface="Georgia"/>
              </a:rPr>
              <a:t>End Users = entre un  /24 y un /22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Solicitud de Recursos IPv6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querimientos para asignaciones iniciales a IS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gnación mínima de /3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 organizacines pueden calificar por una asignación inicial mayor a /32 enviando la documentación que justifique la solicit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bloque asignado debe ser anunciando con el menor nivel posible de desagra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el ISP ya tiene IPv4 la asignación de IPv6 es inmedi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querimientos para asignaciones iniciales a IS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el ISP no tiene aún IPv4 entonces de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Documentar un plan detallado para sus servicios y conectividad de IPv6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Ofrecer servicios de IPv6 en un período no mayor a 24 meses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ignaciones subsiguientes a IS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distribución subsiguiente será provista cuando una organización (ISP/LIR) satisfaga el umbral de evaluación de utilización histórica de direcciones en términos del número de usuarios en unidades de asignaciones de /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 Ratio de 0.94 es adoptado como una aceptable utilización de direcciones para justificar la distribución de espacio de dirección adicio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ignaciones subsiguientes a ISPs (cont.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orno de primera distribución por Segunda distrib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En el caso de una organización cuente con una única distribución IPv6, se realizará por única vez un análisis diferencial.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Si una organización en estas condiciones está dispuesta a devolver a LACNIC en un plazo de 6 meses el bloque inicial distribuido, se estudiará la nueva distribución como si se tratara de una distribución inicial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querimiento para asignaciones iniciales a End Users (cont.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asignan bloques menores a /32 pero siempre mayores a /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organización deberá anunciar un bloque único y agregado por todo el espacio de IPv6 recibi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el End-User tiene ya IPv4 la asignación es in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querimiento para asignaciones iniciales a End Users (cont.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el End-User no tiene IPv4, entonces deberá envi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Cómo el bloque solicitado será usado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Plan de direccionamiento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Topología de red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Plan de enrutamiento, incluyendo los protocolos de ruteo a usar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croasignacione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a infraestructura crítica como IXs, NAPs, ccTLDs, RIR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strar a través de sus estatutos su calidad de IXP o NAP. Deberá poseer al menos tres miembros y una política abierta para la asociación de nuevos miembr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pología de red y plan de numer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eer un plan de utilización para los próximos tres y seis me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ignaciones menores /32 pero mayores a /4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licitude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 solicitudes son analizadas por orden de lleg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empo de respuesta inicial de 48 horas ma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tiempo promedio de asignación es de 3 semanas aproximadamen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Desde su inicio a fin </a:t>
            </a:r>
            <a:endParaRPr b="0" lang="en-US" sz="24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Depende que tan rápido se responde a nuestras consultas técnicas y del número de solicitudes en cola.</a:t>
            </a:r>
            <a:endParaRPr b="0" lang="en-US" sz="2400" spc="-1" strike="noStrike">
              <a:solidFill>
                <a:srgbClr val="558ed5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asignación final se realiza solo cuando se reciben los documentos solicitados y el pago total de la factur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"/>
          <p:cNvSpPr/>
          <p:nvPr/>
        </p:nvSpPr>
        <p:spPr>
          <a:xfrm>
            <a:off x="228600" y="84240"/>
            <a:ext cx="8915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UY" sz="3700" spc="-1" strike="noStrike">
                <a:solidFill>
                  <a:srgbClr val="000000"/>
                </a:solidFill>
                <a:latin typeface="FoundryMonoline-Medium"/>
                <a:ea typeface="FoundryMonoline-Medium"/>
              </a:rPr>
              <a:t>Esquema de distribución de Recurso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"/>
          <p:cNvSpPr/>
          <p:nvPr/>
        </p:nvSpPr>
        <p:spPr>
          <a:xfrm>
            <a:off x="460440" y="1905120"/>
            <a:ext cx="838044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Imagen 27" descr="1.png"/>
          <p:cNvPicPr/>
          <p:nvPr/>
        </p:nvPicPr>
        <p:blipFill>
          <a:blip r:embed="rId2"/>
          <a:stretch/>
        </p:blipFill>
        <p:spPr>
          <a:xfrm>
            <a:off x="460440" y="1100160"/>
            <a:ext cx="8292960" cy="562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ás informació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ual de polític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acnic.net/web/lacnic/manual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ios de Regis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lacnic.net/web/lacnic/servicios-registro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5" descr=""/>
          <p:cNvPicPr/>
          <p:nvPr/>
        </p:nvPicPr>
        <p:blipFill>
          <a:blip r:embed="rId2"/>
          <a:stretch/>
        </p:blipFill>
        <p:spPr>
          <a:xfrm>
            <a:off x="7012080" y="1235160"/>
            <a:ext cx="1309680" cy="14954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6" descr=""/>
          <p:cNvPicPr/>
          <p:nvPr/>
        </p:nvPicPr>
        <p:blipFill>
          <a:blip r:embed="rId3"/>
          <a:stretch/>
        </p:blipFill>
        <p:spPr>
          <a:xfrm>
            <a:off x="5641920" y="5224320"/>
            <a:ext cx="1693800" cy="1459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0" descr=""/>
          <p:cNvPicPr/>
          <p:nvPr/>
        </p:nvPicPr>
        <p:blipFill>
          <a:blip r:embed="rId4"/>
          <a:stretch/>
        </p:blipFill>
        <p:spPr>
          <a:xfrm>
            <a:off x="6629400" y="3683160"/>
            <a:ext cx="2436840" cy="180324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34520" y="166680"/>
            <a:ext cx="8339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Calibri"/>
              </a:rPr>
              <a:t>Características de los RI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1000" y="1375920"/>
            <a:ext cx="846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Organizaciones sin fines de lucro; </a:t>
            </a:r>
            <a:br>
              <a:rPr sz="2800"/>
            </a:b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basadas en membres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UY" sz="2800" spc="-1" strike="noStrike">
                <a:solidFill>
                  <a:srgbClr val="558ed5"/>
                </a:solidFill>
                <a:latin typeface="Calibri"/>
              </a:rPr>
              <a:t>Procesos abiertos, participativos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UY" sz="2800" spc="-1" strike="noStrike">
                <a:solidFill>
                  <a:srgbClr val="558ed5"/>
                </a:solidFill>
                <a:latin typeface="Calibri"/>
              </a:rPr>
              <a:t>Estructuras Bottom up y autoreguladas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Políticas (reglas) desarrolladas por la “comunida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UY" sz="2800" spc="-1" strike="noStrike">
                <a:solidFill>
                  <a:srgbClr val="558ed5"/>
                </a:solidFill>
                <a:latin typeface="Calibri"/>
              </a:rPr>
              <a:t>A través de procesos abiertos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Neutral e impar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Direcciones distribuidas con equ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UY" sz="2800" spc="-1" strike="noStrike">
                <a:solidFill>
                  <a:srgbClr val="558ed5"/>
                </a:solidFill>
                <a:latin typeface="Calibri"/>
              </a:rPr>
              <a:t>Basadas en necesidades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558ed5"/>
              </a:buClr>
              <a:buFont typeface="Arial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UY" sz="2800" spc="-1" strike="noStrike">
                <a:solidFill>
                  <a:srgbClr val="558ed5"/>
                </a:solidFill>
                <a:latin typeface="Calibri"/>
              </a:rPr>
              <a:t>Sin discriminación, </a:t>
            </a:r>
            <a:br>
              <a:rPr sz="2800"/>
            </a:br>
            <a:r>
              <a:rPr b="0" lang="es-UY" sz="2800" spc="-1" strike="noStrike">
                <a:solidFill>
                  <a:srgbClr val="558ed5"/>
                </a:solidFill>
                <a:latin typeface="Calibri"/>
              </a:rPr>
              <a:t>criterios técnicos</a:t>
            </a:r>
            <a:endParaRPr b="0" lang="en-US" sz="2800" spc="-1" strike="noStrike">
              <a:solidFill>
                <a:srgbClr val="558ed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Imagen 10" descr="2.png"/>
          <p:cNvPicPr/>
          <p:nvPr/>
        </p:nvPicPr>
        <p:blipFill>
          <a:blip r:embed="rId2"/>
          <a:stretch/>
        </p:blipFill>
        <p:spPr>
          <a:xfrm>
            <a:off x="165240" y="426960"/>
            <a:ext cx="8964360" cy="6421680"/>
          </a:xfrm>
          <a:prstGeom prst="rect">
            <a:avLst/>
          </a:prstGeom>
          <a:ln w="0">
            <a:noFill/>
          </a:ln>
        </p:spPr>
      </p:pic>
      <p:sp>
        <p:nvSpPr>
          <p:cNvPr id="579" name="Rectángulo 1"/>
          <p:cNvSpPr/>
          <p:nvPr/>
        </p:nvSpPr>
        <p:spPr>
          <a:xfrm>
            <a:off x="398520" y="407880"/>
            <a:ext cx="8381880" cy="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"/>
          <p:cNvSpPr/>
          <p:nvPr/>
        </p:nvSpPr>
        <p:spPr>
          <a:xfrm>
            <a:off x="165240" y="154080"/>
            <a:ext cx="8978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oundryMonoline-Medium"/>
                <a:ea typeface="FoundryMonoline-Medium"/>
              </a:rPr>
              <a:t>Registros Regionales d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¿Cómo solicitar recursos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evo Sistema de Solicitu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https://solicitudes.lacnic.net/</a:t>
            </a:r>
            <a:endParaRPr b="0" lang="en-US" sz="2400" spc="-1" strike="noStrike">
              <a:solidFill>
                <a:srgbClr val="558ed5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a vez que la solicitud haya sido procesada por el sistema, el solicitante recibirá un e-mail de confirmación con un número de tick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ego los hostmasters analizarán la solicitu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¿Por qué solicitar recursos a LACNIC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191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ndependencia del provee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siones BGP con provee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Balanceo de car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vertirse en miembro de LAC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Solicitud de Número de Sistemas Autónomo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13:44:43Z</dcterms:created>
  <dc:creator/>
  <dc:description/>
  <dc:language>en-US</dc:language>
  <cp:lastModifiedBy>Sofia Silva</cp:lastModifiedBy>
  <cp:lastPrinted>2011-04-04T14:53:23Z</cp:lastPrinted>
  <dcterms:modified xsi:type="dcterms:W3CDTF">2014-11-19T14:23:02Z</dcterms:modified>
  <cp:revision>100</cp:revision>
  <dc:subject/>
  <dc:title>PowerPoint Presentation</dc:title>
</cp:coreProperties>
</file>